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BED2-55D7-4AE4-91F3-0DA37F43142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6789144-F1B2-4E62-B5CF-F6B4611B1FC3}" type="datetime12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3:54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7FAD-B792-48D1-9E16-4E85D41CF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, 6 and 7 simultaneously because of dependen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choices made for 1,2,3,6,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rience with prototypes changes will be made. Iterativ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: St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M: Track Recovery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: Fringe Ro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 from JIVE-PSNC meeting on 5 and 6 July 2006, Marcin Okon and Dominik Stok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 creates a schedule file using a text editor. Schedule file describes the experi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 generates a VEX forma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 notifies the CO of the new experi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M is the central point of control and information for the CO. It acts as a shell around the central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 gets VEX file and processes it into another VEX format 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VEX files are sent to telescopes and the CO notifies the TO’s of the new experi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observations data is recorded by the Mk5 system or transferred directly to th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 creates the CCF and Delay file. The CCF describes how and where data is cor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 is responsible for starting the correlatio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lated data are saves in a central arch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 notifies the PI his experiment has been proc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en arrow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arrow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arrow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arrow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 communicating through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I will go into the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vial/obvious way of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te processes all the bases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2 and 3: Data transported Mk4 data format or some other “packed” telescope data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line processing for on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more channels: successively on same cluster or parallel on different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ed data should be available on local 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rchitecture is being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P? available, these files are concat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ch processing, job submission on grid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time processing for on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ime slices divided into sub-time slices, each sub time slice is processed by an individual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,2 and 3 have same pre-correlation and correlation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4 only writing to 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capacity should match the incoming data flows, add or remove cores according to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memory buffer other cores and processes getting the live data for one channel and filling the memory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58D-4BCF-4011-8118-A7C33C80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76344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AF7-226B-425C-A83E-604EA738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524-9E3F-4FBE-8E35-474E37BD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FE7-449B-45FA-834A-24746498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D79A-74A3-4169-9958-C73BC16D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D610-9B66-4C35-8A80-06E5A88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5322-2032-4D8B-B111-ACAE530F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968D-CEAE-455E-8434-056996DF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0899-5733-4037-87CC-8B90963A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8963-42E6-43D6-B489-24EE5AB5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3FAF-A02C-4136-929D-101F18E5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B81-23C5-4713-A3FC-60E0FA2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C249-765B-4D5C-8752-9C5BA67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2625-AE93-49C3-A49C-8C5F506A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76344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3635-ED61-4ED6-AC3F-196B04B2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9691-0137-4BDA-B5EB-EDEB1C0D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29528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763440"/>
            <a:ext cx="257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FF52-1971-4E6D-9DEB-B7F95928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6C6-2B22-48A6-A37A-7EE232B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95A-04C5-4D4E-8077-25505F3E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398-2BFF-4411-ACDC-8B665C8F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6FA-2867-4D58-AE7D-4BE9A75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0D0-D6CB-4A9B-B236-9A671A78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76344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ECE-2074-42D4-8220-6B8D518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295280"/>
            <a:ext cx="390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763440"/>
            <a:ext cx="8001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849-B0CD-486D-AF9D-926AEC76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3356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5640" y="624492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1280" y="624492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67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6A26-29B5-40D2-AFD8-8D751C9599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87520" y="6234120"/>
            <a:ext cx="162216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142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6201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5EAC-35E1-416D-82FA-C35D40181B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85800" y="6234120"/>
            <a:ext cx="1622520" cy="48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PReS FABRIC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P 2.2 Correlator Engi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eting 25-09-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znan Po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IVE, Ruud Oerlem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A18E-4937-4158-B88E-43513EEECE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nburne University, Adam De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 summer exchange of expertise on their software correl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EXPReS employee: Yurii Pidopryhora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tronomy 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alysis and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SCARIe employee: Nico Kruith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cience 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ri, NWO funded project aimed at sw correlator on Dutch Gr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162-4342-4D27-A573-FCEBA8D070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P 2.2.?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44600" y="1725120"/>
            <a:ext cx="85010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 Packag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lator algorithm desig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ost fin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lator computational c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ed up version for clus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ted ver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visualiz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 defini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3610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804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 mer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150-EBD9-4339-856C-1B61421C20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P2.2 Correlator Eng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a Correlator Engine that can run on standard workstations, deployable on clusters and grid n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lator algorithm design (m5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lator computational core, single node (m14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aled up version for clusters (m23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tributed version, middle ware (m33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ve visualization (m4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 definition (m15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538200"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 merge (m24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49F-2049-47DB-A8F5-A608F04B77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broadband Software Corre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06800" y="1066680"/>
            <a:ext cx="8279640" cy="5043240"/>
            <a:chOff x="406800" y="1066680"/>
            <a:chExt cx="8279640" cy="5043240"/>
          </a:xfrm>
        </p:grpSpPr>
        <p:sp>
          <p:nvSpPr>
            <p:cNvPr id="100" name=""/>
            <p:cNvSpPr/>
            <p:nvPr/>
          </p:nvSpPr>
          <p:spPr>
            <a:xfrm>
              <a:off x="2832480" y="1066680"/>
              <a:ext cx="8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on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23440" y="1066680"/>
              <a:ext cx="8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on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00840" y="106668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on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17520" y="2853000"/>
              <a:ext cx="51912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2306160"/>
              <a:ext cx="182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data 16 MHz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k4 format on linux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920" y="2829960"/>
              <a:ext cx="145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nel extr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0440" y="324900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33400" y="3224880"/>
              <a:ext cx="11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acte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41160" y="396936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ay corr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17520" y="3959280"/>
              <a:ext cx="51912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0440" y="437472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"/>
            <p:cNvCxnSpPr>
              <a:stCxn id="112" idx="3"/>
              <a:endCxn id="103" idx="0"/>
            </p:cNvCxnSpPr>
            <p:nvPr/>
          </p:nvCxnSpPr>
          <p:spPr>
            <a:xfrm flipV="1" rot="10800000">
              <a:off x="3276720" y="2680920"/>
              <a:ext cx="1080" cy="17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03" idx="2"/>
              <a:endCxn id="106" idx="1"/>
            </p:cNvCxnSpPr>
            <p:nvPr/>
          </p:nvCxnSpPr>
          <p:spPr>
            <a:xfrm flipV="1" rot="10800000">
              <a:off x="3276720" y="3068640"/>
              <a:ext cx="1080" cy="180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2980440" y="239328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52520" y="4400280"/>
              <a:ext cx="15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ay correcte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"/>
            <p:cNvCxnSpPr>
              <a:stCxn id="106" idx="3"/>
              <a:endCxn id="109" idx="0"/>
            </p:cNvCxnSpPr>
            <p:nvPr/>
          </p:nvCxnSpPr>
          <p:spPr>
            <a:xfrm flipV="1" rot="10800000">
              <a:off x="3276720" y="3536640"/>
              <a:ext cx="1080" cy="422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09" idx="2"/>
              <a:endCxn id="110" idx="1"/>
            </p:cNvCxnSpPr>
            <p:nvPr/>
          </p:nvCxnSpPr>
          <p:spPr>
            <a:xfrm flipV="1" rot="10800000">
              <a:off x="3276720" y="4174920"/>
              <a:ext cx="1080" cy="200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4332960" y="285300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96240" y="324900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32960" y="395928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6240" y="437472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22" idx="3"/>
              <a:endCxn id="117" idx="0"/>
            </p:cNvCxnSpPr>
            <p:nvPr/>
          </p:nvCxnSpPr>
          <p:spPr>
            <a:xfrm flipV="1" rot="10800000">
              <a:off x="4592160" y="2680920"/>
              <a:ext cx="1080" cy="17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17" idx="2"/>
              <a:endCxn id="118" idx="1"/>
            </p:cNvCxnSpPr>
            <p:nvPr/>
          </p:nvCxnSpPr>
          <p:spPr>
            <a:xfrm flipV="1" rot="10800000">
              <a:off x="4592160" y="3068640"/>
              <a:ext cx="1080" cy="180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4296240" y="239328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18" idx="3"/>
              <a:endCxn id="119" idx="0"/>
            </p:cNvCxnSpPr>
            <p:nvPr/>
          </p:nvCxnSpPr>
          <p:spPr>
            <a:xfrm flipV="1" rot="10800000">
              <a:off x="4592160" y="3536640"/>
              <a:ext cx="1080" cy="422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19" idx="2"/>
              <a:endCxn id="120" idx="1"/>
            </p:cNvCxnSpPr>
            <p:nvPr/>
          </p:nvCxnSpPr>
          <p:spPr>
            <a:xfrm flipV="1" rot="10800000">
              <a:off x="4592160" y="4174920"/>
              <a:ext cx="1080" cy="200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6233040" y="285300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5960" y="324900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33040" y="395928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5960" y="437472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"/>
            <p:cNvCxnSpPr>
              <a:stCxn id="131" idx="3"/>
              <a:endCxn id="126" idx="0"/>
            </p:cNvCxnSpPr>
            <p:nvPr/>
          </p:nvCxnSpPr>
          <p:spPr>
            <a:xfrm flipV="1" rot="10800000">
              <a:off x="6492240" y="2680920"/>
              <a:ext cx="1080" cy="17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6" idx="2"/>
              <a:endCxn id="127" idx="1"/>
            </p:cNvCxnSpPr>
            <p:nvPr/>
          </p:nvCxnSpPr>
          <p:spPr>
            <a:xfrm flipV="1" rot="10800000">
              <a:off x="6492240" y="3068640"/>
              <a:ext cx="1080" cy="180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" name=""/>
            <p:cNvSpPr/>
            <p:nvPr/>
          </p:nvSpPr>
          <p:spPr>
            <a:xfrm>
              <a:off x="6195960" y="239328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27" idx="3"/>
              <a:endCxn id="128" idx="0"/>
            </p:cNvCxnSpPr>
            <p:nvPr/>
          </p:nvCxnSpPr>
          <p:spPr>
            <a:xfrm flipV="1" rot="10800000">
              <a:off x="6492240" y="3536640"/>
              <a:ext cx="1080" cy="422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8" idx="2"/>
              <a:endCxn id="129" idx="1"/>
            </p:cNvCxnSpPr>
            <p:nvPr/>
          </p:nvCxnSpPr>
          <p:spPr>
            <a:xfrm flipV="1" rot="10800000">
              <a:off x="6492240" y="4174920"/>
              <a:ext cx="1080" cy="200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4799880" y="5263560"/>
              <a:ext cx="371160" cy="360000"/>
            </a:xfrm>
            <a:prstGeom prst="flowChartSummingJunction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0" idx="3"/>
              <a:endCxn id="135" idx="0"/>
            </p:cNvCxnSpPr>
            <p:nvPr/>
          </p:nvCxnSpPr>
          <p:spPr>
            <a:xfrm flipH="1" rot="16200000">
              <a:off x="3831120" y="4108680"/>
              <a:ext cx="600840" cy="1708560"/>
            </a:xfrm>
            <a:prstGeom prst="curvedConnector5">
              <a:avLst>
                <a:gd name="adj1" fmla="val 50000"/>
                <a:gd name="adj2" fmla="val 49989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0" idx="3"/>
              <a:endCxn id="135" idx="0"/>
            </p:cNvCxnSpPr>
            <p:nvPr/>
          </p:nvCxnSpPr>
          <p:spPr>
            <a:xfrm flipH="1" rot="16200000">
              <a:off x="4488840" y="4766400"/>
              <a:ext cx="600840" cy="39312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9" idx="3"/>
              <a:endCxn id="135" idx="0"/>
            </p:cNvCxnSpPr>
            <p:nvPr/>
          </p:nvCxnSpPr>
          <p:spPr>
            <a:xfrm rot="5400000">
              <a:off x="5438160" y="4209120"/>
              <a:ext cx="600840" cy="15080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2929320" y="5306760"/>
              <a:ext cx="160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relation. SFX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84520" y="5677920"/>
              <a:ext cx="1915560" cy="432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08840" y="3651480"/>
              <a:ext cx="434160" cy="15876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7640" y="3661560"/>
              <a:ext cx="434520" cy="135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46760" y="3661560"/>
              <a:ext cx="458640" cy="135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>
              <a:stCxn id="141" idx="3"/>
              <a:endCxn id="109" idx="0"/>
            </p:cNvCxnSpPr>
            <p:nvPr/>
          </p:nvCxnSpPr>
          <p:spPr>
            <a:xfrm flipH="1" rot="16200000">
              <a:off x="2927880" y="3608640"/>
              <a:ext cx="149040" cy="550800"/>
            </a:xfrm>
            <a:prstGeom prst="curvedConnector5">
              <a:avLst>
                <a:gd name="adj1" fmla="val 49394"/>
                <a:gd name="adj2" fmla="val 49967"/>
                <a:gd name="adj3" fmla="val 4939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stCxn id="142" idx="3"/>
              <a:endCxn id="119" idx="0"/>
            </p:cNvCxnSpPr>
            <p:nvPr/>
          </p:nvCxnSpPr>
          <p:spPr>
            <a:xfrm flipH="1" rot="16200000">
              <a:off x="4268160" y="3634200"/>
              <a:ext cx="162720" cy="487080"/>
            </a:xfrm>
            <a:prstGeom prst="curvedConnector5">
              <a:avLst>
                <a:gd name="adj1" fmla="val 49889"/>
                <a:gd name="adj2" fmla="val 50000"/>
                <a:gd name="adj3" fmla="val 4988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stCxn id="143" idx="3"/>
              <a:endCxn id="128" idx="0"/>
            </p:cNvCxnSpPr>
            <p:nvPr/>
          </p:nvCxnSpPr>
          <p:spPr>
            <a:xfrm flipH="1" rot="16200000">
              <a:off x="6203160" y="3669480"/>
              <a:ext cx="162720" cy="416520"/>
            </a:xfrm>
            <a:prstGeom prst="curvedConnector5">
              <a:avLst>
                <a:gd name="adj1" fmla="val 49889"/>
                <a:gd name="adj2" fmla="val 50000"/>
                <a:gd name="adj3" fmla="val 4988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>
              <a:off x="406800" y="3616560"/>
              <a:ext cx="204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-calculated,Delay t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9000" y="1495800"/>
              <a:ext cx="593280" cy="28800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7520" y="1962720"/>
              <a:ext cx="51912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97680" y="149436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34760" y="196092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94520" y="1527480"/>
              <a:ext cx="593280" cy="287640"/>
            </a:xfrm>
            <a:prstGeom prst="flowChartMagneticDisk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33040" y="1994040"/>
              <a:ext cx="519480" cy="21600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>
              <a:stCxn id="148" idx="3"/>
              <a:endCxn id="149" idx="0"/>
            </p:cNvCxnSpPr>
            <p:nvPr/>
          </p:nvCxnSpPr>
          <p:spPr>
            <a:xfrm flipH="1" rot="16200000">
              <a:off x="3187080" y="1872360"/>
              <a:ext cx="179280" cy="2160"/>
            </a:xfrm>
            <a:prstGeom prst="curvedConnector5">
              <a:avLst>
                <a:gd name="adj1" fmla="val 49496"/>
                <a:gd name="adj2" fmla="val 40000"/>
                <a:gd name="adj3" fmla="val 4949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9" idx="2"/>
              <a:endCxn id="112" idx="1"/>
            </p:cNvCxnSpPr>
            <p:nvPr/>
          </p:nvCxnSpPr>
          <p:spPr>
            <a:xfrm flipV="1" rot="10800000">
              <a:off x="3276720" y="2178720"/>
              <a:ext cx="1080" cy="214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3"/>
              <a:endCxn id="151" idx="0"/>
            </p:cNvCxnSpPr>
            <p:nvPr/>
          </p:nvCxnSpPr>
          <p:spPr>
            <a:xfrm flipV="1" rot="10800000">
              <a:off x="4593960" y="1782000"/>
              <a:ext cx="1080" cy="179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1" idx="2"/>
              <a:endCxn id="122" idx="1"/>
            </p:cNvCxnSpPr>
            <p:nvPr/>
          </p:nvCxnSpPr>
          <p:spPr>
            <a:xfrm rot="5400000">
              <a:off x="4484880" y="2284560"/>
              <a:ext cx="216720" cy="2160"/>
            </a:xfrm>
            <a:prstGeom prst="curvedConnector5">
              <a:avLst>
                <a:gd name="adj1" fmla="val 49916"/>
                <a:gd name="adj2" fmla="val 40000"/>
                <a:gd name="adj3" fmla="val 4991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52" idx="3"/>
              <a:endCxn id="153" idx="0"/>
            </p:cNvCxnSpPr>
            <p:nvPr/>
          </p:nvCxnSpPr>
          <p:spPr>
            <a:xfrm flipH="1" rot="16200000">
              <a:off x="6402600" y="1903680"/>
              <a:ext cx="179280" cy="2160"/>
            </a:xfrm>
            <a:prstGeom prst="curvedConnector5">
              <a:avLst>
                <a:gd name="adj1" fmla="val 49496"/>
                <a:gd name="adj2" fmla="val 40000"/>
                <a:gd name="adj3" fmla="val 4949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3" idx="2"/>
              <a:endCxn id="131" idx="1"/>
            </p:cNvCxnSpPr>
            <p:nvPr/>
          </p:nvCxnSpPr>
          <p:spPr>
            <a:xfrm flipV="1" rot="10800000">
              <a:off x="6492240" y="2210040"/>
              <a:ext cx="1080" cy="183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0" name=""/>
            <p:cNvSpPr/>
            <p:nvPr/>
          </p:nvSpPr>
          <p:spPr>
            <a:xfrm>
              <a:off x="1124640" y="19234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Mk5 to linux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6080" y="1437120"/>
              <a:ext cx="184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data BW=16 MHz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k4 format on Mk5 disk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54200" y="2692080"/>
              <a:ext cx="899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M,TRM,C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54200" y="3854160"/>
              <a:ext cx="98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CM,DMM,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85800" y="2692080"/>
              <a:ext cx="355320" cy="1350720"/>
            </a:xfrm>
            <a:custGeom>
              <a:avLst/>
              <a:gdLst>
                <a:gd name="textAreaLeft" fmla="*/ 0 w 355320"/>
                <a:gd name="textAreaRight" fmla="*/ 128160 w 355320"/>
                <a:gd name="textAreaTop" fmla="*/ 34920 h 1350720"/>
                <a:gd name="textAreaBottom" fmla="*/ 1315800 h 13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144"/>
                  </a:lnTo>
                  <a:cubicBezTo>
                    <a:pt x="10800" y="10044"/>
                    <a:pt x="16200" y="10944"/>
                    <a:pt x="21600" y="10944"/>
                  </a:cubicBezTo>
                  <a:cubicBezTo>
                    <a:pt x="16200" y="10944"/>
                    <a:pt x="10800" y="11844"/>
                    <a:pt x="10800" y="1274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48960" y="3250440"/>
              <a:ext cx="44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47840" y="4583520"/>
              <a:ext cx="88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re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"/>
            <p:cNvCxnSpPr>
              <a:stCxn id="135" idx="4"/>
              <a:endCxn id="140" idx="1"/>
            </p:cNvCxnSpPr>
            <p:nvPr/>
          </p:nvCxnSpPr>
          <p:spPr>
            <a:xfrm flipH="1" rot="16200000">
              <a:off x="5049720" y="5558760"/>
              <a:ext cx="270720" cy="399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7341840" y="4088160"/>
              <a:ext cx="324360" cy="1503720"/>
            </a:xfrm>
            <a:custGeom>
              <a:avLst/>
              <a:gdLst>
                <a:gd name="textAreaLeft" fmla="*/ 0 w 324360"/>
                <a:gd name="textAreaRight" fmla="*/ 117000 w 324360"/>
                <a:gd name="textAreaTop" fmla="*/ 38880 h 1503720"/>
                <a:gd name="textAreaBottom" fmla="*/ 146484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26120" y="1081440"/>
              <a:ext cx="166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N Mk4 equival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2A0-6691-4E8E-B8A1-05E11EAD19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level design Distributed Corre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133720"/>
            <a:ext cx="2133360" cy="153972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8000" y="2743200"/>
            <a:ext cx="6289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ocess 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99040" y="2438280"/>
            <a:ext cx="466560" cy="2271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3276720"/>
            <a:ext cx="533520" cy="30456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De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276720"/>
            <a:ext cx="439560" cy="30456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C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3" idx="2"/>
            <a:endCxn id="174" idx="1"/>
          </p:cNvCxnSpPr>
          <p:nvPr/>
        </p:nvCxnSpPr>
        <p:spPr>
          <a:xfrm flipH="1" rot="16200000">
            <a:off x="5084640" y="2912760"/>
            <a:ext cx="612000" cy="116640"/>
          </a:xfrm>
          <a:prstGeom prst="curvedConnector5">
            <a:avLst>
              <a:gd name="adj1" fmla="val 49852"/>
              <a:gd name="adj2" fmla="val 49845"/>
              <a:gd name="adj3" fmla="val 498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886200" y="3276720"/>
            <a:ext cx="457200" cy="295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2" idx="2"/>
            <a:endCxn id="177" idx="1"/>
          </p:cNvCxnSpPr>
          <p:nvPr/>
        </p:nvCxnSpPr>
        <p:spPr>
          <a:xfrm rot="5400000">
            <a:off x="4228560" y="2943000"/>
            <a:ext cx="219960" cy="44856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75" idx="1"/>
          </p:cNvCxnSpPr>
          <p:nvPr/>
        </p:nvCxnSpPr>
        <p:spPr>
          <a:xfrm flipH="1" rot="16200000">
            <a:off x="4566960" y="3051720"/>
            <a:ext cx="219960" cy="23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3809880" y="2209680"/>
            <a:ext cx="6858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W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1349280"/>
            <a:ext cx="2438640" cy="55584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1523880"/>
            <a:ext cx="561960" cy="190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CH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49520" y="1447920"/>
            <a:ext cx="666720" cy="3474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447920"/>
            <a:ext cx="457200" cy="3412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3" idx="4"/>
            <a:endCxn id="182" idx="1"/>
          </p:cNvCxnSpPr>
          <p:nvPr/>
        </p:nvCxnSpPr>
        <p:spPr>
          <a:xfrm flipV="1">
            <a:off x="4115880" y="1618560"/>
            <a:ext cx="227880" cy="3960"/>
          </a:xfrm>
          <a:prstGeom prst="curvedConnector5">
            <a:avLst>
              <a:gd name="adj1" fmla="val 49525"/>
              <a:gd name="adj2" fmla="val 50000"/>
              <a:gd name="adj3" fmla="val 495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2" idx="3"/>
            <a:endCxn id="184" idx="2"/>
          </p:cNvCxnSpPr>
          <p:nvPr/>
        </p:nvCxnSpPr>
        <p:spPr>
          <a:xfrm>
            <a:off x="4905360" y="1618920"/>
            <a:ext cx="200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4" idx="3"/>
            <a:endCxn id="173" idx="0"/>
          </p:cNvCxnSpPr>
          <p:nvPr/>
        </p:nvCxnSpPr>
        <p:spPr>
          <a:xfrm rot="5400000">
            <a:off x="5007960" y="2112480"/>
            <a:ext cx="649800" cy="2520"/>
          </a:xfrm>
          <a:prstGeom prst="curvedConnector5">
            <a:avLst>
              <a:gd name="adj1" fmla="val 49833"/>
              <a:gd name="adj2" fmla="val 50000"/>
              <a:gd name="adj3" fmla="val 49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4" idx="3"/>
            <a:endCxn id="172" idx="0"/>
          </p:cNvCxnSpPr>
          <p:nvPr/>
        </p:nvCxnSpPr>
        <p:spPr>
          <a:xfrm rot="5400000">
            <a:off x="4470480" y="1880280"/>
            <a:ext cx="954720" cy="772200"/>
          </a:xfrm>
          <a:prstGeom prst="curvedConnector5">
            <a:avLst>
              <a:gd name="adj1" fmla="val 49905"/>
              <a:gd name="adj2" fmla="val 50000"/>
              <a:gd name="adj3" fmla="val 499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Cloud"/>
          <p:cNvSpPr/>
          <p:nvPr/>
        </p:nvSpPr>
        <p:spPr>
          <a:xfrm>
            <a:off x="4356000" y="4238640"/>
            <a:ext cx="2335320" cy="1565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48320" y="4467240"/>
            <a:ext cx="7621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r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0240" y="4772160"/>
            <a:ext cx="76176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r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19720" y="5229360"/>
            <a:ext cx="76212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r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76880" y="1523880"/>
            <a:ext cx="1356840" cy="2063880"/>
            <a:chOff x="776880" y="1523880"/>
            <a:chExt cx="1356840" cy="2063880"/>
          </a:xfrm>
        </p:grpSpPr>
        <p:sp>
          <p:nvSpPr>
            <p:cNvPr id="194" name=""/>
            <p:cNvSpPr/>
            <p:nvPr/>
          </p:nvSpPr>
          <p:spPr>
            <a:xfrm>
              <a:off x="1138320" y="2503440"/>
              <a:ext cx="995400" cy="10843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888840" y="1563120"/>
              <a:ext cx="651960" cy="687600"/>
              <a:chOff x="888840" y="1563120"/>
              <a:chExt cx="651960" cy="687600"/>
            </a:xfrm>
          </p:grpSpPr>
          <p:sp>
            <p:nvSpPr>
              <p:cNvPr id="196" name=""/>
              <p:cNvSpPr/>
              <p:nvPr/>
            </p:nvSpPr>
            <p:spPr>
              <a:xfrm rot="13175400">
                <a:off x="968760" y="1670760"/>
                <a:ext cx="491760" cy="42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63" y="5924"/>
                    </a:moveTo>
                    <a:arcTo wR="10800" hR="10800" stAng="-9189620" swAng="8125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63" y="5924"/>
                    </a:moveTo>
                    <a:arcTo wR="10800" hR="10800" stAng="-9189620" swAng="812552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10880" y="2046240"/>
                <a:ext cx="123120" cy="204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355760" y="2625840"/>
              <a:ext cx="5857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ield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8360" y="3135240"/>
              <a:ext cx="5857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ark5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8" idx="0"/>
              <a:endCxn id="197" idx="3"/>
            </p:cNvCxnSpPr>
            <p:nvPr/>
          </p:nvCxnSpPr>
          <p:spPr>
            <a:xfrm flipV="1" rot="16200000">
              <a:off x="1172520" y="2150280"/>
              <a:ext cx="375480" cy="575280"/>
            </a:xfrm>
            <a:prstGeom prst="curvedConnector5">
              <a:avLst>
                <a:gd name="adj1" fmla="val 49904"/>
                <a:gd name="adj2" fmla="val 49968"/>
                <a:gd name="adj3" fmla="val 499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7" idx="1"/>
              <a:endCxn id="199" idx="1"/>
            </p:cNvCxnSpPr>
            <p:nvPr/>
          </p:nvCxnSpPr>
          <p:spPr>
            <a:xfrm flipH="1" flipV="1" rot="10800000">
              <a:off x="1041120" y="2149200"/>
              <a:ext cx="327600" cy="1154880"/>
            </a:xfrm>
            <a:prstGeom prst="curvedConnector5">
              <a:avLst>
                <a:gd name="adj1" fmla="val -80858"/>
                <a:gd name="adj2" fmla="val 49984"/>
                <a:gd name="adj3" fmla="val -80858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202" name=""/>
            <p:cNvGrpSpPr/>
            <p:nvPr/>
          </p:nvGrpSpPr>
          <p:grpSpPr>
            <a:xfrm>
              <a:off x="1846440" y="1523880"/>
              <a:ext cx="161640" cy="333360"/>
              <a:chOff x="1846440" y="1523880"/>
              <a:chExt cx="161640" cy="333360"/>
            </a:xfrm>
          </p:grpSpPr>
          <p:sp>
            <p:nvSpPr>
              <p:cNvPr id="203" name=""/>
              <p:cNvSpPr/>
              <p:nvPr/>
            </p:nvSpPr>
            <p:spPr>
              <a:xfrm>
                <a:off x="1868400" y="1523880"/>
                <a:ext cx="117720" cy="11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27080" y="1634400"/>
                <a:ext cx="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856880" y="1763280"/>
                <a:ext cx="6948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28160" y="1764720"/>
                <a:ext cx="6948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46440" y="167220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rot="5400000">
              <a:off x="1695960" y="2140560"/>
              <a:ext cx="469800" cy="125640"/>
            </a:xfrm>
            <a:prstGeom prst="leftRightArrow">
              <a:avLst>
                <a:gd name="adj1" fmla="val 50000"/>
                <a:gd name="adj2" fmla="val 744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613520" y="3733920"/>
            <a:ext cx="1358280" cy="2063520"/>
            <a:chOff x="1613520" y="3733920"/>
            <a:chExt cx="1358280" cy="2063520"/>
          </a:xfrm>
        </p:grpSpPr>
        <p:sp>
          <p:nvSpPr>
            <p:cNvPr id="210" name=""/>
            <p:cNvSpPr/>
            <p:nvPr/>
          </p:nvSpPr>
          <p:spPr>
            <a:xfrm>
              <a:off x="1976400" y="4713120"/>
              <a:ext cx="995400" cy="10843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727280" y="3773160"/>
              <a:ext cx="652320" cy="687240"/>
              <a:chOff x="1727280" y="3773160"/>
              <a:chExt cx="652320" cy="687240"/>
            </a:xfrm>
          </p:grpSpPr>
          <p:sp>
            <p:nvSpPr>
              <p:cNvPr id="212" name=""/>
              <p:cNvSpPr/>
              <p:nvPr/>
            </p:nvSpPr>
            <p:spPr>
              <a:xfrm rot="13175400">
                <a:off x="1807200" y="3880440"/>
                <a:ext cx="492120" cy="42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63" y="5924"/>
                    </a:moveTo>
                    <a:arcTo wR="10800" hR="10800" stAng="-9189620" swAng="8125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63" y="5924"/>
                    </a:moveTo>
                    <a:arcTo wR="10800" hR="10800" stAng="-9189620" swAng="812552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8960" y="4255920"/>
                <a:ext cx="123120" cy="204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193840" y="4835520"/>
              <a:ext cx="58572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ield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06800" y="5345280"/>
              <a:ext cx="585720" cy="33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ark5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>
              <a:stCxn id="214" idx="0"/>
              <a:endCxn id="213" idx="3"/>
            </p:cNvCxnSpPr>
            <p:nvPr/>
          </p:nvCxnSpPr>
          <p:spPr>
            <a:xfrm flipV="1" rot="16200000">
              <a:off x="2010600" y="4359960"/>
              <a:ext cx="375480" cy="575640"/>
            </a:xfrm>
            <a:prstGeom prst="curvedConnector5">
              <a:avLst>
                <a:gd name="adj1" fmla="val 49904"/>
                <a:gd name="adj2" fmla="val 50000"/>
                <a:gd name="adj3" fmla="val 499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3" idx="1"/>
              <a:endCxn id="215" idx="1"/>
            </p:cNvCxnSpPr>
            <p:nvPr/>
          </p:nvCxnSpPr>
          <p:spPr>
            <a:xfrm flipH="1" flipV="1" rot="10800000">
              <a:off x="1878480" y="4358880"/>
              <a:ext cx="327960" cy="1154880"/>
            </a:xfrm>
            <a:prstGeom prst="curvedConnector5">
              <a:avLst>
                <a:gd name="adj1" fmla="val -80879"/>
                <a:gd name="adj2" fmla="val 49984"/>
                <a:gd name="adj3" fmla="val -80879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218" name=""/>
            <p:cNvGrpSpPr/>
            <p:nvPr/>
          </p:nvGrpSpPr>
          <p:grpSpPr>
            <a:xfrm>
              <a:off x="2684520" y="3733920"/>
              <a:ext cx="162000" cy="333360"/>
              <a:chOff x="2684520" y="3733920"/>
              <a:chExt cx="162000" cy="333360"/>
            </a:xfrm>
          </p:grpSpPr>
          <p:sp>
            <p:nvSpPr>
              <p:cNvPr id="219" name=""/>
              <p:cNvSpPr/>
              <p:nvPr/>
            </p:nvSpPr>
            <p:spPr>
              <a:xfrm>
                <a:off x="2706480" y="3733920"/>
                <a:ext cx="118080" cy="11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65520" y="3844440"/>
                <a:ext cx="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695320" y="3973320"/>
                <a:ext cx="6984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66600" y="3974760"/>
                <a:ext cx="6984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684520" y="3882240"/>
                <a:ext cx="16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rot="5400000">
              <a:off x="2534400" y="4350600"/>
              <a:ext cx="470160" cy="125280"/>
            </a:xfrm>
            <a:prstGeom prst="leftRightArrow">
              <a:avLst>
                <a:gd name="adj1" fmla="val 50000"/>
                <a:gd name="adj2" fmla="val 747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949080" y="1828800"/>
            <a:ext cx="1356840" cy="2063880"/>
            <a:chOff x="6949080" y="1828800"/>
            <a:chExt cx="1356840" cy="2063880"/>
          </a:xfrm>
        </p:grpSpPr>
        <p:sp>
          <p:nvSpPr>
            <p:cNvPr id="226" name=""/>
            <p:cNvSpPr/>
            <p:nvPr/>
          </p:nvSpPr>
          <p:spPr>
            <a:xfrm>
              <a:off x="7310520" y="2808360"/>
              <a:ext cx="995400" cy="10843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061040" y="1868040"/>
              <a:ext cx="651960" cy="687600"/>
              <a:chOff x="7061040" y="1868040"/>
              <a:chExt cx="651960" cy="687600"/>
            </a:xfrm>
          </p:grpSpPr>
          <p:sp>
            <p:nvSpPr>
              <p:cNvPr id="228" name=""/>
              <p:cNvSpPr/>
              <p:nvPr/>
            </p:nvSpPr>
            <p:spPr>
              <a:xfrm rot="13175400">
                <a:off x="7140960" y="1975680"/>
                <a:ext cx="491760" cy="42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63" y="5924"/>
                    </a:moveTo>
                    <a:arcTo wR="10800" hR="10800" stAng="-9189620" swAng="8125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63" y="5924"/>
                    </a:moveTo>
                    <a:arcTo wR="10800" hR="10800" stAng="-9189620" swAng="812552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83080" y="2351160"/>
                <a:ext cx="123120" cy="204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7527960" y="2930400"/>
              <a:ext cx="58572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ield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40560" y="3440160"/>
              <a:ext cx="5857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ark5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2" name=""/>
            <p:cNvCxnSpPr>
              <a:stCxn id="230" idx="0"/>
              <a:endCxn id="229" idx="3"/>
            </p:cNvCxnSpPr>
            <p:nvPr/>
          </p:nvCxnSpPr>
          <p:spPr>
            <a:xfrm flipV="1" rot="16200000">
              <a:off x="7345080" y="2455200"/>
              <a:ext cx="375120" cy="575280"/>
            </a:xfrm>
            <a:prstGeom prst="curvedConnector5">
              <a:avLst>
                <a:gd name="adj1" fmla="val 49855"/>
                <a:gd name="adj2" fmla="val 49968"/>
                <a:gd name="adj3" fmla="val 4985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29" idx="1"/>
              <a:endCxn id="231" idx="1"/>
            </p:cNvCxnSpPr>
            <p:nvPr/>
          </p:nvCxnSpPr>
          <p:spPr>
            <a:xfrm flipH="1" flipV="1" rot="10800000">
              <a:off x="7213320" y="2453760"/>
              <a:ext cx="327600" cy="1154880"/>
            </a:xfrm>
            <a:prstGeom prst="curvedConnector5">
              <a:avLst>
                <a:gd name="adj1" fmla="val -80858"/>
                <a:gd name="adj2" fmla="val 49984"/>
                <a:gd name="adj3" fmla="val -80858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234" name=""/>
            <p:cNvGrpSpPr/>
            <p:nvPr/>
          </p:nvGrpSpPr>
          <p:grpSpPr>
            <a:xfrm>
              <a:off x="8018640" y="1828800"/>
              <a:ext cx="161640" cy="333360"/>
              <a:chOff x="8018640" y="1828800"/>
              <a:chExt cx="161640" cy="333360"/>
            </a:xfrm>
          </p:grpSpPr>
          <p:sp>
            <p:nvSpPr>
              <p:cNvPr id="235" name=""/>
              <p:cNvSpPr/>
              <p:nvPr/>
            </p:nvSpPr>
            <p:spPr>
              <a:xfrm>
                <a:off x="8040600" y="1828800"/>
                <a:ext cx="117720" cy="11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99280" y="1939320"/>
                <a:ext cx="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8029080" y="2068200"/>
                <a:ext cx="6948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100360" y="2069640"/>
                <a:ext cx="69480" cy="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18640" y="1977120"/>
                <a:ext cx="16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rot="5400000">
              <a:off x="7868160" y="2445480"/>
              <a:ext cx="469800" cy="125640"/>
            </a:xfrm>
            <a:prstGeom prst="leftRightArrow">
              <a:avLst>
                <a:gd name="adj1" fmla="val 50000"/>
                <a:gd name="adj2" fmla="val 744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1" name=""/>
          <p:cNvCxnSpPr>
            <a:stCxn id="177" idx="3"/>
            <a:endCxn id="210" idx="3"/>
          </p:cNvCxnSpPr>
          <p:nvPr/>
        </p:nvCxnSpPr>
        <p:spPr>
          <a:xfrm rot="5400000">
            <a:off x="2700360" y="3842280"/>
            <a:ext cx="168516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177" idx="3"/>
            <a:endCxn id="226" idx="2"/>
          </p:cNvCxnSpPr>
          <p:nvPr/>
        </p:nvCxnSpPr>
        <p:spPr>
          <a:xfrm flipH="1" rot="16200000">
            <a:off x="5800320" y="1884960"/>
            <a:ext cx="321480" cy="3694680"/>
          </a:xfrm>
          <a:prstGeom prst="curvedConnector5">
            <a:avLst>
              <a:gd name="adj1" fmla="val 170739"/>
              <a:gd name="adj2" fmla="val 50000"/>
              <a:gd name="adj3" fmla="val 170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194" idx="3"/>
            <a:endCxn id="189" idx="4"/>
          </p:cNvCxnSpPr>
          <p:nvPr/>
        </p:nvCxnSpPr>
        <p:spPr>
          <a:xfrm>
            <a:off x="2133360" y="3046320"/>
            <a:ext cx="2230920" cy="1975680"/>
          </a:xfrm>
          <a:prstGeom prst="curvedConnector5">
            <a:avLst>
              <a:gd name="adj1" fmla="val 49741"/>
              <a:gd name="adj2" fmla="val 49990"/>
              <a:gd name="adj3" fmla="val 4974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10" idx="2"/>
            <a:endCxn id="189" idx="5"/>
          </p:cNvCxnSpPr>
          <p:nvPr/>
        </p:nvCxnSpPr>
        <p:spPr>
          <a:xfrm flipH="1" flipV="1" rot="5400000">
            <a:off x="3030120" y="4464360"/>
            <a:ext cx="776880" cy="1889640"/>
          </a:xfrm>
          <a:prstGeom prst="curvedConnector5">
            <a:avLst>
              <a:gd name="adj1" fmla="val -29207"/>
              <a:gd name="adj2" fmla="val 31459"/>
              <a:gd name="adj3" fmla="val -2920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6" idx="3"/>
            <a:endCxn id="189" idx="6"/>
          </p:cNvCxnSpPr>
          <p:nvPr/>
        </p:nvCxnSpPr>
        <p:spPr>
          <a:xfrm flipH="1">
            <a:off x="6689160" y="3350880"/>
            <a:ext cx="1616760" cy="1670760"/>
          </a:xfrm>
          <a:prstGeom prst="curvedConnector5">
            <a:avLst>
              <a:gd name="adj1" fmla="val -14031"/>
              <a:gd name="adj2" fmla="val 50000"/>
              <a:gd name="adj3" fmla="val -1403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175" idx="3"/>
            <a:endCxn id="189" idx="7"/>
          </p:cNvCxnSpPr>
          <p:nvPr/>
        </p:nvCxnSpPr>
        <p:spPr>
          <a:xfrm flipH="1" rot="16200000">
            <a:off x="4784400" y="3588120"/>
            <a:ext cx="747000" cy="732600"/>
          </a:xfrm>
          <a:prstGeom prst="curvedConnector5">
            <a:avLst>
              <a:gd name="adj1" fmla="val 44021"/>
              <a:gd name="adj2" fmla="val 50000"/>
              <a:gd name="adj3" fmla="val 44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174" idx="3"/>
            <a:endCxn id="189" idx="8"/>
          </p:cNvCxnSpPr>
          <p:nvPr/>
        </p:nvCxnSpPr>
        <p:spPr>
          <a:xfrm flipH="1" rot="16200000">
            <a:off x="5113080" y="3916080"/>
            <a:ext cx="747000" cy="76680"/>
          </a:xfrm>
          <a:prstGeom prst="curvedConnector5">
            <a:avLst>
              <a:gd name="adj1" fmla="val 44021"/>
              <a:gd name="adj2" fmla="val 50000"/>
              <a:gd name="adj3" fmla="val 44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8" name=""/>
          <p:cNvGrpSpPr/>
          <p:nvPr/>
        </p:nvGrpSpPr>
        <p:grpSpPr>
          <a:xfrm>
            <a:off x="2590920" y="1295280"/>
            <a:ext cx="158760" cy="333360"/>
            <a:chOff x="2590920" y="1295280"/>
            <a:chExt cx="158760" cy="333360"/>
          </a:xfrm>
        </p:grpSpPr>
        <p:sp>
          <p:nvSpPr>
            <p:cNvPr id="249" name=""/>
            <p:cNvSpPr/>
            <p:nvPr/>
          </p:nvSpPr>
          <p:spPr>
            <a:xfrm>
              <a:off x="2612160" y="1295280"/>
              <a:ext cx="115560" cy="11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70120" y="1405800"/>
              <a:ext cx="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601720" y="1534680"/>
              <a:ext cx="6840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71200" y="1536120"/>
              <a:ext cx="6840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920" y="144360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666880" y="1676520"/>
            <a:ext cx="685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inciple Investig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1447920"/>
            <a:ext cx="549360" cy="129960"/>
          </a:xfrm>
          <a:prstGeom prst="leftRightArrow">
            <a:avLst>
              <a:gd name="adj1" fmla="val 50000"/>
              <a:gd name="adj2" fmla="val 84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177" idx="2"/>
            <a:endCxn id="194" idx="3"/>
          </p:cNvCxnSpPr>
          <p:nvPr/>
        </p:nvCxnSpPr>
        <p:spPr>
          <a:xfrm rot="10800000">
            <a:off x="2133000" y="3045600"/>
            <a:ext cx="1753200" cy="378720"/>
          </a:xfrm>
          <a:prstGeom prst="curvedConnector5">
            <a:avLst>
              <a:gd name="adj1" fmla="val 49989"/>
              <a:gd name="adj2" fmla="val 49952"/>
              <a:gd name="adj3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6172200" y="2979720"/>
            <a:ext cx="66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al oper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477120" y="2598840"/>
            <a:ext cx="158760" cy="333360"/>
            <a:chOff x="6477120" y="2598840"/>
            <a:chExt cx="158760" cy="333360"/>
          </a:xfrm>
        </p:grpSpPr>
        <p:sp>
          <p:nvSpPr>
            <p:cNvPr id="259" name=""/>
            <p:cNvSpPr/>
            <p:nvPr/>
          </p:nvSpPr>
          <p:spPr>
            <a:xfrm>
              <a:off x="6498360" y="2598840"/>
              <a:ext cx="115560" cy="11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6320" y="2709360"/>
              <a:ext cx="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487920" y="2838240"/>
              <a:ext cx="6840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57400" y="2839680"/>
              <a:ext cx="6840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74716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867280" y="2674800"/>
            <a:ext cx="549360" cy="130320"/>
          </a:xfrm>
          <a:prstGeom prst="leftRightArrow">
            <a:avLst>
              <a:gd name="adj1" fmla="val 50000"/>
              <a:gd name="adj2" fmla="val 839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1523880"/>
            <a:ext cx="762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esco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per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7640" y="5284800"/>
            <a:ext cx="838440" cy="4572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JIVE arch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189" idx="9"/>
            <a:endCxn id="266" idx="3"/>
          </p:cNvCxnSpPr>
          <p:nvPr/>
        </p:nvCxnSpPr>
        <p:spPr>
          <a:xfrm flipH="1" flipV="1" rot="5400000">
            <a:off x="6639120" y="4625640"/>
            <a:ext cx="61200" cy="2292840"/>
          </a:xfrm>
          <a:prstGeom prst="curvedConnector5">
            <a:avLst>
              <a:gd name="adj1" fmla="val -381065"/>
              <a:gd name="adj2" fmla="val 50000"/>
              <a:gd name="adj3" fmla="val -381065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6149880" y="1459080"/>
            <a:ext cx="533520" cy="30456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E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3"/>
            <a:endCxn id="173" idx="0"/>
          </p:cNvCxnSpPr>
          <p:nvPr/>
        </p:nvCxnSpPr>
        <p:spPr>
          <a:xfrm rot="5400000">
            <a:off x="5536440" y="1558800"/>
            <a:ext cx="675360" cy="1085040"/>
          </a:xfrm>
          <a:prstGeom prst="curvedConnector5">
            <a:avLst>
              <a:gd name="adj1" fmla="val 49866"/>
              <a:gd name="adj2" fmla="val 49983"/>
              <a:gd name="adj3" fmla="val 498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 flipH="1" flipV="1">
            <a:off x="2114640" y="1884240"/>
            <a:ext cx="1598400" cy="59544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31760" y="2720880"/>
            <a:ext cx="903240" cy="9367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850000" y="1883880"/>
            <a:ext cx="2071800" cy="40644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35160" y="1442880"/>
            <a:ext cx="1589040" cy="716040"/>
          </a:xfrm>
          <a:custGeom>
            <a:avLst/>
            <a:gdLst/>
            <a:ahLst/>
            <a:rect l="l" t="t" r="r" b="b"/>
            <a:pathLst>
              <a:path w="1001" h="625">
                <a:moveTo>
                  <a:pt x="1001" y="625"/>
                </a:moveTo>
                <a:cubicBezTo>
                  <a:pt x="626" y="534"/>
                  <a:pt x="252" y="444"/>
                  <a:pt x="126" y="340"/>
                </a:cubicBezTo>
                <a:cubicBezTo>
                  <a:pt x="0" y="236"/>
                  <a:pt x="122" y="118"/>
                  <a:pt x="244" y="0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8E1-F0A5-4CD8-8D9B-4D6DF1E61E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id considerations/asp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628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use grid processing pow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vailable, no hardware investment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will be upgraded regular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gree of distribution is trade-off betwe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ing power at the grid n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transport capacity to the grid n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logistics and coord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complicated when more distribu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ng at telescope and grid n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on related processing at telescope site and correlation elsew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processing at grid n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879-5CD9-491F-902C-B22F4736C2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distribution over grid sites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838440" y="17654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line s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60400" y="2544120"/>
            <a:ext cx="329040" cy="349920"/>
            <a:chOff x="860400" y="2544120"/>
            <a:chExt cx="329040" cy="349920"/>
          </a:xfrm>
        </p:grpSpPr>
        <p:sp>
          <p:nvSpPr>
            <p:cNvPr id="279" name=""/>
            <p:cNvSpPr/>
            <p:nvPr/>
          </p:nvSpPr>
          <p:spPr>
            <a:xfrm rot="13175400">
              <a:off x="901080" y="25977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21600" y="27896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892600" y="2544120"/>
            <a:ext cx="329040" cy="349920"/>
            <a:chOff x="2892600" y="2544120"/>
            <a:chExt cx="329040" cy="349920"/>
          </a:xfrm>
        </p:grpSpPr>
        <p:sp>
          <p:nvSpPr>
            <p:cNvPr id="282" name=""/>
            <p:cNvSpPr/>
            <p:nvPr/>
          </p:nvSpPr>
          <p:spPr>
            <a:xfrm rot="13175400">
              <a:off x="2933280" y="25977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53800" y="27896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914480" y="267984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81160" y="359424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14480" y="466092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0" idx="4"/>
            <a:endCxn id="284" idx="1"/>
          </p:cNvCxnSpPr>
          <p:nvPr/>
        </p:nvCxnSpPr>
        <p:spPr>
          <a:xfrm flipV="1">
            <a:off x="984240" y="2793600"/>
            <a:ext cx="930960" cy="1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3" idx="2"/>
            <a:endCxn id="284" idx="3"/>
          </p:cNvCxnSpPr>
          <p:nvPr/>
        </p:nvCxnSpPr>
        <p:spPr>
          <a:xfrm flipH="1" flipV="1">
            <a:off x="2066040" y="2793600"/>
            <a:ext cx="888120" cy="1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90" idx="2"/>
            <a:endCxn id="285" idx="2"/>
          </p:cNvCxnSpPr>
          <p:nvPr/>
        </p:nvCxnSpPr>
        <p:spPr>
          <a:xfrm flipV="1">
            <a:off x="2953800" y="3822120"/>
            <a:ext cx="104040" cy="88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3" idx="2"/>
            <a:endCxn id="285" idx="0"/>
          </p:cNvCxnSpPr>
          <p:nvPr/>
        </p:nvCxnSpPr>
        <p:spPr>
          <a:xfrm>
            <a:off x="2953800" y="2893680"/>
            <a:ext cx="104040" cy="700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93" idx="4"/>
            <a:endCxn id="286" idx="1"/>
          </p:cNvCxnSpPr>
          <p:nvPr/>
        </p:nvCxnSpPr>
        <p:spPr>
          <a:xfrm>
            <a:off x="982800" y="4710240"/>
            <a:ext cx="932400" cy="65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0" idx="2"/>
            <a:endCxn id="286" idx="3"/>
          </p:cNvCxnSpPr>
          <p:nvPr/>
        </p:nvCxnSpPr>
        <p:spPr>
          <a:xfrm flipH="1">
            <a:off x="2066040" y="4710240"/>
            <a:ext cx="888120" cy="65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847800" y="359424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80" idx="4"/>
            <a:endCxn id="295" idx="0"/>
          </p:cNvCxnSpPr>
          <p:nvPr/>
        </p:nvCxnSpPr>
        <p:spPr>
          <a:xfrm flipH="1">
            <a:off x="923400" y="2893680"/>
            <a:ext cx="61200" cy="700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3" idx="4"/>
            <a:endCxn id="295" idx="2"/>
          </p:cNvCxnSpPr>
          <p:nvPr/>
        </p:nvCxnSpPr>
        <p:spPr>
          <a:xfrm flipH="1" flipV="1">
            <a:off x="923400" y="3822120"/>
            <a:ext cx="59760" cy="88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914480" y="321300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83" idx="2"/>
            <a:endCxn id="298" idx="3"/>
          </p:cNvCxnSpPr>
          <p:nvPr/>
        </p:nvCxnSpPr>
        <p:spPr>
          <a:xfrm flipH="1">
            <a:off x="2066040" y="2894040"/>
            <a:ext cx="888120" cy="434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3" idx="4"/>
            <a:endCxn id="298" idx="1"/>
          </p:cNvCxnSpPr>
          <p:nvPr/>
        </p:nvCxnSpPr>
        <p:spPr>
          <a:xfrm flipV="1">
            <a:off x="982800" y="3326760"/>
            <a:ext cx="932400" cy="1383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1914480" y="397512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90" idx="2"/>
            <a:endCxn id="301" idx="3"/>
          </p:cNvCxnSpPr>
          <p:nvPr/>
        </p:nvCxnSpPr>
        <p:spPr>
          <a:xfrm flipH="1" flipV="1">
            <a:off x="2066040" y="4088520"/>
            <a:ext cx="888120" cy="621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80" idx="4"/>
            <a:endCxn id="301" idx="1"/>
          </p:cNvCxnSpPr>
          <p:nvPr/>
        </p:nvCxnSpPr>
        <p:spPr>
          <a:xfrm>
            <a:off x="984240" y="2894040"/>
            <a:ext cx="930960" cy="1195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3743280" y="22669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e implementation a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ication of large data rates, especially when number of baselines is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logistics comp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lability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23960" y="3594240"/>
            <a:ext cx="15264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"/>
          <p:cNvCxnSpPr>
            <a:stCxn id="295" idx="3"/>
            <a:endCxn id="305" idx="1"/>
          </p:cNvCxnSpPr>
          <p:nvPr/>
        </p:nvCxnSpPr>
        <p:spPr>
          <a:xfrm>
            <a:off x="999720" y="37080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84" idx="2"/>
            <a:endCxn id="305" idx="0"/>
          </p:cNvCxnSpPr>
          <p:nvPr/>
        </p:nvCxnSpPr>
        <p:spPr>
          <a:xfrm>
            <a:off x="1990440" y="2908080"/>
            <a:ext cx="6102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8" idx="2"/>
            <a:endCxn id="305" idx="1"/>
          </p:cNvCxnSpPr>
          <p:nvPr/>
        </p:nvCxnSpPr>
        <p:spPr>
          <a:xfrm>
            <a:off x="1990440" y="3441240"/>
            <a:ext cx="5338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86" idx="0"/>
            <a:endCxn id="305" idx="2"/>
          </p:cNvCxnSpPr>
          <p:nvPr/>
        </p:nvCxnSpPr>
        <p:spPr>
          <a:xfrm flipV="1">
            <a:off x="1990440" y="3822480"/>
            <a:ext cx="6102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1" idx="0"/>
            <a:endCxn id="305" idx="1"/>
          </p:cNvCxnSpPr>
          <p:nvPr/>
        </p:nvCxnSpPr>
        <p:spPr>
          <a:xfrm flipV="1">
            <a:off x="1990440" y="3708000"/>
            <a:ext cx="5338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5" idx="1"/>
            <a:endCxn id="305" idx="3"/>
          </p:cNvCxnSpPr>
          <p:nvPr/>
        </p:nvCxnSpPr>
        <p:spPr>
          <a:xfrm flipH="1">
            <a:off x="2676240" y="370800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12" name=""/>
          <p:cNvGrpSpPr/>
          <p:nvPr/>
        </p:nvGrpSpPr>
        <p:grpSpPr>
          <a:xfrm>
            <a:off x="2892600" y="4360320"/>
            <a:ext cx="329040" cy="349920"/>
            <a:chOff x="2892600" y="4360320"/>
            <a:chExt cx="329040" cy="349920"/>
          </a:xfrm>
        </p:grpSpPr>
        <p:sp>
          <p:nvSpPr>
            <p:cNvPr id="313" name=""/>
            <p:cNvSpPr/>
            <p:nvPr/>
          </p:nvSpPr>
          <p:spPr>
            <a:xfrm rot="13175400">
              <a:off x="2933280" y="44139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53800" y="46058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858960" y="4360320"/>
            <a:ext cx="329040" cy="349920"/>
            <a:chOff x="858960" y="4360320"/>
            <a:chExt cx="329040" cy="349920"/>
          </a:xfrm>
        </p:grpSpPr>
        <p:sp>
          <p:nvSpPr>
            <p:cNvPr id="315" name=""/>
            <p:cNvSpPr/>
            <p:nvPr/>
          </p:nvSpPr>
          <p:spPr>
            <a:xfrm rot="13175400">
              <a:off x="899640" y="44139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160" y="46058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E6D-F3A6-4BD9-B0B5-B43F7A6BDF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distribution over grid site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35040" y="1098000"/>
            <a:ext cx="329040" cy="349920"/>
            <a:chOff x="635040" y="1098000"/>
            <a:chExt cx="329040" cy="349920"/>
          </a:xfrm>
        </p:grpSpPr>
        <p:sp>
          <p:nvSpPr>
            <p:cNvPr id="318" name=""/>
            <p:cNvSpPr/>
            <p:nvPr/>
          </p:nvSpPr>
          <p:spPr>
            <a:xfrm rot="13175400">
              <a:off x="675720" y="115164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6240" y="134352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35040" y="2556720"/>
            <a:ext cx="329040" cy="349920"/>
            <a:chOff x="635040" y="2556720"/>
            <a:chExt cx="329040" cy="349920"/>
          </a:xfrm>
        </p:grpSpPr>
        <p:sp>
          <p:nvSpPr>
            <p:cNvPr id="321" name=""/>
            <p:cNvSpPr/>
            <p:nvPr/>
          </p:nvSpPr>
          <p:spPr>
            <a:xfrm rot="13175400">
              <a:off x="675720" y="26103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6240" y="28022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197080" y="2556720"/>
            <a:ext cx="329040" cy="349920"/>
            <a:chOff x="2197080" y="2556720"/>
            <a:chExt cx="329040" cy="349920"/>
          </a:xfrm>
        </p:grpSpPr>
        <p:sp>
          <p:nvSpPr>
            <p:cNvPr id="324" name=""/>
            <p:cNvSpPr/>
            <p:nvPr/>
          </p:nvSpPr>
          <p:spPr>
            <a:xfrm rot="13175400">
              <a:off x="2237760" y="26103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58280" y="28022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197080" y="1098000"/>
            <a:ext cx="329040" cy="349920"/>
            <a:chOff x="2197080" y="1098000"/>
            <a:chExt cx="329040" cy="349920"/>
          </a:xfrm>
        </p:grpSpPr>
        <p:sp>
          <p:nvSpPr>
            <p:cNvPr id="327" name=""/>
            <p:cNvSpPr/>
            <p:nvPr/>
          </p:nvSpPr>
          <p:spPr>
            <a:xfrm rot="13175400">
              <a:off x="2237760" y="115164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58280" y="134352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96880" y="3442680"/>
            <a:ext cx="329040" cy="349920"/>
            <a:chOff x="596880" y="3442680"/>
            <a:chExt cx="329040" cy="349920"/>
          </a:xfrm>
        </p:grpSpPr>
        <p:sp>
          <p:nvSpPr>
            <p:cNvPr id="330" name=""/>
            <p:cNvSpPr/>
            <p:nvPr/>
          </p:nvSpPr>
          <p:spPr>
            <a:xfrm rot="13175400">
              <a:off x="637560" y="349632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8080" y="368820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6880" y="4968360"/>
            <a:ext cx="329040" cy="349920"/>
            <a:chOff x="596880" y="4968360"/>
            <a:chExt cx="329040" cy="349920"/>
          </a:xfrm>
        </p:grpSpPr>
        <p:sp>
          <p:nvSpPr>
            <p:cNvPr id="333" name=""/>
            <p:cNvSpPr/>
            <p:nvPr/>
          </p:nvSpPr>
          <p:spPr>
            <a:xfrm rot="13175400">
              <a:off x="637560" y="502200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8080" y="521388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197080" y="3444120"/>
            <a:ext cx="329040" cy="349920"/>
            <a:chOff x="2197080" y="3444120"/>
            <a:chExt cx="329040" cy="349920"/>
          </a:xfrm>
        </p:grpSpPr>
        <p:sp>
          <p:nvSpPr>
            <p:cNvPr id="336" name=""/>
            <p:cNvSpPr/>
            <p:nvPr/>
          </p:nvSpPr>
          <p:spPr>
            <a:xfrm rot="13175400">
              <a:off x="2237760" y="34977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58280" y="36896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197080" y="4968360"/>
            <a:ext cx="329040" cy="349920"/>
            <a:chOff x="2197080" y="4968360"/>
            <a:chExt cx="329040" cy="349920"/>
          </a:xfrm>
        </p:grpSpPr>
        <p:sp>
          <p:nvSpPr>
            <p:cNvPr id="339" name=""/>
            <p:cNvSpPr/>
            <p:nvPr/>
          </p:nvSpPr>
          <p:spPr>
            <a:xfrm rot="13175400">
              <a:off x="2237760" y="502200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8280" y="521388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837320" y="2556720"/>
            <a:ext cx="329040" cy="349920"/>
            <a:chOff x="4837320" y="2556720"/>
            <a:chExt cx="329040" cy="349920"/>
          </a:xfrm>
        </p:grpSpPr>
        <p:sp>
          <p:nvSpPr>
            <p:cNvPr id="342" name=""/>
            <p:cNvSpPr/>
            <p:nvPr/>
          </p:nvSpPr>
          <p:spPr>
            <a:xfrm rot="13175400">
              <a:off x="4878000" y="26103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98520" y="28022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388200" y="2556720"/>
            <a:ext cx="329040" cy="349920"/>
            <a:chOff x="6388200" y="2556720"/>
            <a:chExt cx="329040" cy="349920"/>
          </a:xfrm>
        </p:grpSpPr>
        <p:sp>
          <p:nvSpPr>
            <p:cNvPr id="345" name=""/>
            <p:cNvSpPr/>
            <p:nvPr/>
          </p:nvSpPr>
          <p:spPr>
            <a:xfrm rot="13175400">
              <a:off x="6428880" y="261036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49400" y="280224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837320" y="1098000"/>
            <a:ext cx="329040" cy="349920"/>
            <a:chOff x="4837320" y="1098000"/>
            <a:chExt cx="329040" cy="349920"/>
          </a:xfrm>
        </p:grpSpPr>
        <p:sp>
          <p:nvSpPr>
            <p:cNvPr id="348" name=""/>
            <p:cNvSpPr/>
            <p:nvPr/>
          </p:nvSpPr>
          <p:spPr>
            <a:xfrm rot="13175400">
              <a:off x="4878000" y="115164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98520" y="134352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388200" y="1098000"/>
            <a:ext cx="329040" cy="349920"/>
            <a:chOff x="6388200" y="1098000"/>
            <a:chExt cx="329040" cy="349920"/>
          </a:xfrm>
        </p:grpSpPr>
        <p:sp>
          <p:nvSpPr>
            <p:cNvPr id="351" name=""/>
            <p:cNvSpPr/>
            <p:nvPr/>
          </p:nvSpPr>
          <p:spPr>
            <a:xfrm rot="13175400">
              <a:off x="6428880" y="115164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9400" y="134352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371600" y="1828800"/>
            <a:ext cx="2286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19" idx="4"/>
            <a:endCxn id="353" idx="1"/>
          </p:cNvCxnSpPr>
          <p:nvPr/>
        </p:nvCxnSpPr>
        <p:spPr>
          <a:xfrm>
            <a:off x="758880" y="1447560"/>
            <a:ext cx="613440" cy="572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22" idx="4"/>
            <a:endCxn id="353" idx="1"/>
          </p:cNvCxnSpPr>
          <p:nvPr/>
        </p:nvCxnSpPr>
        <p:spPr>
          <a:xfrm flipV="1">
            <a:off x="758880" y="2018520"/>
            <a:ext cx="613440" cy="88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25" idx="2"/>
            <a:endCxn id="353" idx="3"/>
          </p:cNvCxnSpPr>
          <p:nvPr/>
        </p:nvCxnSpPr>
        <p:spPr>
          <a:xfrm flipH="1" flipV="1">
            <a:off x="1599840" y="2018520"/>
            <a:ext cx="659520" cy="888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28" idx="2"/>
            <a:endCxn id="353" idx="3"/>
          </p:cNvCxnSpPr>
          <p:nvPr/>
        </p:nvCxnSpPr>
        <p:spPr>
          <a:xfrm flipH="1">
            <a:off x="1599840" y="1447560"/>
            <a:ext cx="659520" cy="572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5638680" y="167652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198108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228600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49" idx="4"/>
            <a:endCxn id="358" idx="1"/>
          </p:cNvCxnSpPr>
          <p:nvPr/>
        </p:nvCxnSpPr>
        <p:spPr>
          <a:xfrm>
            <a:off x="4960440" y="1447920"/>
            <a:ext cx="678600" cy="34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3" idx="4"/>
            <a:endCxn id="358" idx="1"/>
          </p:cNvCxnSpPr>
          <p:nvPr/>
        </p:nvCxnSpPr>
        <p:spPr>
          <a:xfrm flipV="1">
            <a:off x="4960440" y="1790280"/>
            <a:ext cx="678600" cy="1116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8" idx="3"/>
          </p:cNvCxnSpPr>
          <p:nvPr/>
        </p:nvCxnSpPr>
        <p:spPr>
          <a:xfrm flipH="1">
            <a:off x="5790960" y="1447920"/>
            <a:ext cx="659520" cy="34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46" idx="2"/>
            <a:endCxn id="358" idx="3"/>
          </p:cNvCxnSpPr>
          <p:nvPr/>
        </p:nvCxnSpPr>
        <p:spPr>
          <a:xfrm flipH="1" flipV="1">
            <a:off x="5790960" y="1790280"/>
            <a:ext cx="659520" cy="1116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49" idx="4"/>
            <a:endCxn id="359" idx="1"/>
          </p:cNvCxnSpPr>
          <p:nvPr/>
        </p:nvCxnSpPr>
        <p:spPr>
          <a:xfrm>
            <a:off x="4960440" y="1447560"/>
            <a:ext cx="67860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43" idx="4"/>
            <a:endCxn id="359" idx="1"/>
          </p:cNvCxnSpPr>
          <p:nvPr/>
        </p:nvCxnSpPr>
        <p:spPr>
          <a:xfrm flipV="1">
            <a:off x="4960440" y="2094840"/>
            <a:ext cx="678600" cy="811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46" idx="2"/>
            <a:endCxn id="359" idx="3"/>
          </p:cNvCxnSpPr>
          <p:nvPr/>
        </p:nvCxnSpPr>
        <p:spPr>
          <a:xfrm flipH="1" flipV="1">
            <a:off x="5790960" y="2094840"/>
            <a:ext cx="659520" cy="811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52" idx="2"/>
            <a:endCxn id="359" idx="3"/>
          </p:cNvCxnSpPr>
          <p:nvPr/>
        </p:nvCxnSpPr>
        <p:spPr>
          <a:xfrm flipH="1">
            <a:off x="5790960" y="1447560"/>
            <a:ext cx="65952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43" idx="4"/>
            <a:endCxn id="360" idx="1"/>
          </p:cNvCxnSpPr>
          <p:nvPr/>
        </p:nvCxnSpPr>
        <p:spPr>
          <a:xfrm flipV="1">
            <a:off x="4960440" y="2400120"/>
            <a:ext cx="678600" cy="506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49" idx="4"/>
            <a:endCxn id="360" idx="1"/>
          </p:cNvCxnSpPr>
          <p:nvPr/>
        </p:nvCxnSpPr>
        <p:spPr>
          <a:xfrm>
            <a:off x="4960440" y="1447920"/>
            <a:ext cx="678600" cy="953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2" idx="2"/>
            <a:endCxn id="360" idx="3"/>
          </p:cNvCxnSpPr>
          <p:nvPr/>
        </p:nvCxnSpPr>
        <p:spPr>
          <a:xfrm flipH="1">
            <a:off x="5790960" y="1447920"/>
            <a:ext cx="659520" cy="953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46" idx="2"/>
            <a:endCxn id="360" idx="3"/>
          </p:cNvCxnSpPr>
          <p:nvPr/>
        </p:nvCxnSpPr>
        <p:spPr>
          <a:xfrm flipH="1" flipV="1">
            <a:off x="5790960" y="2400120"/>
            <a:ext cx="659520" cy="506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1447920" y="402264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432756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463248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"/>
          <p:cNvCxnSpPr>
            <a:stCxn id="331" idx="4"/>
            <a:endCxn id="373" idx="1"/>
          </p:cNvCxnSpPr>
          <p:nvPr/>
        </p:nvCxnSpPr>
        <p:spPr>
          <a:xfrm>
            <a:off x="720720" y="3792240"/>
            <a:ext cx="727560" cy="345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31" idx="4"/>
            <a:endCxn id="374" idx="1"/>
          </p:cNvCxnSpPr>
          <p:nvPr/>
        </p:nvCxnSpPr>
        <p:spPr>
          <a:xfrm>
            <a:off x="720720" y="3792240"/>
            <a:ext cx="727560" cy="64980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31" idx="4"/>
            <a:endCxn id="375" idx="1"/>
          </p:cNvCxnSpPr>
          <p:nvPr/>
        </p:nvCxnSpPr>
        <p:spPr>
          <a:xfrm>
            <a:off x="720720" y="3792600"/>
            <a:ext cx="727560" cy="9547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4" idx="4"/>
            <a:endCxn id="373" idx="1"/>
          </p:cNvCxnSpPr>
          <p:nvPr/>
        </p:nvCxnSpPr>
        <p:spPr>
          <a:xfrm flipV="1">
            <a:off x="720720" y="4136400"/>
            <a:ext cx="727560" cy="1181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40" idx="2"/>
            <a:endCxn id="373" idx="3"/>
          </p:cNvCxnSpPr>
          <p:nvPr/>
        </p:nvCxnSpPr>
        <p:spPr>
          <a:xfrm flipH="1" flipV="1">
            <a:off x="1599840" y="4136400"/>
            <a:ext cx="659520" cy="1181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37" idx="2"/>
            <a:endCxn id="373" idx="3"/>
          </p:cNvCxnSpPr>
          <p:nvPr/>
        </p:nvCxnSpPr>
        <p:spPr>
          <a:xfrm flipH="1">
            <a:off x="1599840" y="3793680"/>
            <a:ext cx="659520" cy="343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40" idx="2"/>
            <a:endCxn id="374" idx="3"/>
          </p:cNvCxnSpPr>
          <p:nvPr/>
        </p:nvCxnSpPr>
        <p:spPr>
          <a:xfrm flipH="1" flipV="1">
            <a:off x="1599840" y="4440960"/>
            <a:ext cx="659520" cy="87732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37" idx="2"/>
            <a:endCxn id="374" idx="3"/>
          </p:cNvCxnSpPr>
          <p:nvPr/>
        </p:nvCxnSpPr>
        <p:spPr>
          <a:xfrm flipH="1">
            <a:off x="1599840" y="3793680"/>
            <a:ext cx="659520" cy="64836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34" idx="4"/>
            <a:endCxn id="374" idx="1"/>
          </p:cNvCxnSpPr>
          <p:nvPr/>
        </p:nvCxnSpPr>
        <p:spPr>
          <a:xfrm flipV="1">
            <a:off x="720720" y="4440960"/>
            <a:ext cx="727560" cy="87732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34" idx="4"/>
            <a:endCxn id="375" idx="1"/>
          </p:cNvCxnSpPr>
          <p:nvPr/>
        </p:nvCxnSpPr>
        <p:spPr>
          <a:xfrm flipV="1">
            <a:off x="720720" y="4746240"/>
            <a:ext cx="727560" cy="57240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40" idx="2"/>
            <a:endCxn id="375" idx="3"/>
          </p:cNvCxnSpPr>
          <p:nvPr/>
        </p:nvCxnSpPr>
        <p:spPr>
          <a:xfrm flipH="1" flipV="1">
            <a:off x="1599840" y="4746240"/>
            <a:ext cx="659520" cy="57240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37" idx="2"/>
            <a:endCxn id="375" idx="3"/>
          </p:cNvCxnSpPr>
          <p:nvPr/>
        </p:nvCxnSpPr>
        <p:spPr>
          <a:xfrm flipH="1">
            <a:off x="1599840" y="3794040"/>
            <a:ext cx="659520" cy="9532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grpSp>
        <p:nvGrpSpPr>
          <p:cNvPr id="388" name=""/>
          <p:cNvGrpSpPr/>
          <p:nvPr/>
        </p:nvGrpSpPr>
        <p:grpSpPr>
          <a:xfrm>
            <a:off x="4788000" y="3534840"/>
            <a:ext cx="329040" cy="349920"/>
            <a:chOff x="4788000" y="3534840"/>
            <a:chExt cx="329040" cy="349920"/>
          </a:xfrm>
        </p:grpSpPr>
        <p:sp>
          <p:nvSpPr>
            <p:cNvPr id="389" name=""/>
            <p:cNvSpPr/>
            <p:nvPr/>
          </p:nvSpPr>
          <p:spPr>
            <a:xfrm rot="13175400">
              <a:off x="4828680" y="358848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49200" y="378036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788000" y="5060160"/>
            <a:ext cx="329040" cy="349920"/>
            <a:chOff x="4788000" y="5060160"/>
            <a:chExt cx="329040" cy="349920"/>
          </a:xfrm>
        </p:grpSpPr>
        <p:sp>
          <p:nvSpPr>
            <p:cNvPr id="392" name=""/>
            <p:cNvSpPr/>
            <p:nvPr/>
          </p:nvSpPr>
          <p:spPr>
            <a:xfrm rot="13175400">
              <a:off x="4828680" y="511380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49200" y="530568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388200" y="3536280"/>
            <a:ext cx="329040" cy="349920"/>
            <a:chOff x="6388200" y="3536280"/>
            <a:chExt cx="329040" cy="349920"/>
          </a:xfrm>
        </p:grpSpPr>
        <p:sp>
          <p:nvSpPr>
            <p:cNvPr id="395" name=""/>
            <p:cNvSpPr/>
            <p:nvPr/>
          </p:nvSpPr>
          <p:spPr>
            <a:xfrm rot="13175400">
              <a:off x="6428880" y="358992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49400" y="378180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388200" y="5060160"/>
            <a:ext cx="329040" cy="349920"/>
            <a:chOff x="6388200" y="5060160"/>
            <a:chExt cx="329040" cy="349920"/>
          </a:xfrm>
        </p:grpSpPr>
        <p:sp>
          <p:nvSpPr>
            <p:cNvPr id="398" name=""/>
            <p:cNvSpPr/>
            <p:nvPr/>
          </p:nvSpPr>
          <p:spPr>
            <a:xfrm rot="13175400">
              <a:off x="6428880" y="5113800"/>
              <a:ext cx="247320" cy="21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" y="5924"/>
                  </a:moveTo>
                  <a:arcTo wR="10800" hR="10800" stAng="-9189620" swAng="812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" y="5924"/>
                  </a:moveTo>
                  <a:arcTo wR="10800" hR="10800" stAng="-9189620" swAng="812552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49400" y="5305680"/>
              <a:ext cx="61920" cy="10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638680" y="411480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38680" y="441972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472428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390" idx="4"/>
            <a:endCxn id="400" idx="1"/>
          </p:cNvCxnSpPr>
          <p:nvPr/>
        </p:nvCxnSpPr>
        <p:spPr>
          <a:xfrm>
            <a:off x="4911480" y="3884400"/>
            <a:ext cx="727560" cy="34524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</p:cxnSp>
      <p:cxnSp>
        <p:nvCxnSpPr>
          <p:cNvPr id="404" name=""/>
          <p:cNvCxnSpPr>
            <a:stCxn id="390" idx="4"/>
            <a:endCxn id="401" idx="1"/>
          </p:cNvCxnSpPr>
          <p:nvPr/>
        </p:nvCxnSpPr>
        <p:spPr>
          <a:xfrm>
            <a:off x="4911480" y="3884400"/>
            <a:ext cx="727560" cy="649800"/>
          </a:xfrm>
          <a:prstGeom prst="straightConnector1">
            <a:avLst/>
          </a:prstGeom>
          <a:ln w="9360">
            <a:solidFill>
              <a:srgbClr val="00ff00"/>
            </a:solidFill>
            <a:prstDash val="lgDash"/>
            <a:miter/>
            <a:tailEnd len="med" type="triangle" w="med"/>
          </a:ln>
        </p:spPr>
      </p:cxnSp>
      <p:cxnSp>
        <p:nvCxnSpPr>
          <p:cNvPr id="405" name=""/>
          <p:cNvCxnSpPr>
            <a:stCxn id="390" idx="4"/>
            <a:endCxn id="402" idx="1"/>
          </p:cNvCxnSpPr>
          <p:nvPr/>
        </p:nvCxnSpPr>
        <p:spPr>
          <a:xfrm>
            <a:off x="4911480" y="3884760"/>
            <a:ext cx="727560" cy="954720"/>
          </a:xfrm>
          <a:prstGeom prst="straightConnector1">
            <a:avLst/>
          </a:prstGeom>
          <a:ln w="9360">
            <a:solidFill>
              <a:srgbClr val="ff6600"/>
            </a:solidFill>
            <a:prstDash val="lgDash"/>
            <a:miter/>
            <a:tailEnd len="med" type="triangle" w="med"/>
          </a:ln>
        </p:spPr>
      </p:cxnSp>
      <p:cxnSp>
        <p:nvCxnSpPr>
          <p:cNvPr id="406" name=""/>
          <p:cNvCxnSpPr>
            <a:stCxn id="393" idx="4"/>
            <a:endCxn id="400" idx="1"/>
          </p:cNvCxnSpPr>
          <p:nvPr/>
        </p:nvCxnSpPr>
        <p:spPr>
          <a:xfrm flipV="1">
            <a:off x="4911480" y="4228920"/>
            <a:ext cx="727560" cy="118152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</p:cxnSp>
      <p:cxnSp>
        <p:nvCxnSpPr>
          <p:cNvPr id="407" name=""/>
          <p:cNvCxnSpPr>
            <a:stCxn id="399" idx="2"/>
            <a:endCxn id="400" idx="3"/>
          </p:cNvCxnSpPr>
          <p:nvPr/>
        </p:nvCxnSpPr>
        <p:spPr>
          <a:xfrm flipH="1" flipV="1">
            <a:off x="5790960" y="4228920"/>
            <a:ext cx="659520" cy="118152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</p:cxnSp>
      <p:cxnSp>
        <p:nvCxnSpPr>
          <p:cNvPr id="408" name=""/>
          <p:cNvCxnSpPr>
            <a:stCxn id="396" idx="2"/>
            <a:endCxn id="400" idx="3"/>
          </p:cNvCxnSpPr>
          <p:nvPr/>
        </p:nvCxnSpPr>
        <p:spPr>
          <a:xfrm flipH="1">
            <a:off x="5790960" y="3885840"/>
            <a:ext cx="659520" cy="34380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</p:cxnSp>
      <p:cxnSp>
        <p:nvCxnSpPr>
          <p:cNvPr id="409" name=""/>
          <p:cNvCxnSpPr>
            <a:stCxn id="399" idx="2"/>
            <a:endCxn id="401" idx="3"/>
          </p:cNvCxnSpPr>
          <p:nvPr/>
        </p:nvCxnSpPr>
        <p:spPr>
          <a:xfrm flipH="1" flipV="1">
            <a:off x="5790960" y="4533480"/>
            <a:ext cx="659520" cy="876960"/>
          </a:xfrm>
          <a:prstGeom prst="straightConnector1">
            <a:avLst/>
          </a:prstGeom>
          <a:ln w="9360">
            <a:solidFill>
              <a:srgbClr val="00ff00"/>
            </a:solidFill>
            <a:prstDash val="lgDash"/>
            <a:miter/>
            <a:tailEnd len="med" type="triangle" w="med"/>
          </a:ln>
        </p:spPr>
      </p:cxnSp>
      <p:cxnSp>
        <p:nvCxnSpPr>
          <p:cNvPr id="410" name=""/>
          <p:cNvCxnSpPr>
            <a:stCxn id="396" idx="2"/>
            <a:endCxn id="401" idx="3"/>
          </p:cNvCxnSpPr>
          <p:nvPr/>
        </p:nvCxnSpPr>
        <p:spPr>
          <a:xfrm flipH="1">
            <a:off x="5790960" y="3885840"/>
            <a:ext cx="659520" cy="648360"/>
          </a:xfrm>
          <a:prstGeom prst="straightConnector1">
            <a:avLst/>
          </a:prstGeom>
          <a:ln w="9360">
            <a:solidFill>
              <a:srgbClr val="00ff00"/>
            </a:solidFill>
            <a:prstDash val="lgDash"/>
            <a:miter/>
            <a:tailEnd len="med" type="triangle" w="med"/>
          </a:ln>
        </p:spPr>
      </p:cxnSp>
      <p:cxnSp>
        <p:nvCxnSpPr>
          <p:cNvPr id="411" name=""/>
          <p:cNvCxnSpPr>
            <a:stCxn id="393" idx="4"/>
            <a:endCxn id="401" idx="1"/>
          </p:cNvCxnSpPr>
          <p:nvPr/>
        </p:nvCxnSpPr>
        <p:spPr>
          <a:xfrm flipV="1">
            <a:off x="4911480" y="4533480"/>
            <a:ext cx="727560" cy="876960"/>
          </a:xfrm>
          <a:prstGeom prst="straightConnector1">
            <a:avLst/>
          </a:prstGeom>
          <a:ln w="9360">
            <a:solidFill>
              <a:srgbClr val="00ff00"/>
            </a:solidFill>
            <a:prstDash val="lgDash"/>
            <a:miter/>
            <a:tailEnd len="med" type="triangle" w="med"/>
          </a:ln>
        </p:spPr>
      </p:cxnSp>
      <p:cxnSp>
        <p:nvCxnSpPr>
          <p:cNvPr id="412" name=""/>
          <p:cNvCxnSpPr>
            <a:stCxn id="393" idx="4"/>
            <a:endCxn id="402" idx="1"/>
          </p:cNvCxnSpPr>
          <p:nvPr/>
        </p:nvCxnSpPr>
        <p:spPr>
          <a:xfrm flipV="1">
            <a:off x="4911480" y="4838040"/>
            <a:ext cx="727560" cy="572040"/>
          </a:xfrm>
          <a:prstGeom prst="straightConnector1">
            <a:avLst/>
          </a:prstGeom>
          <a:ln w="9360">
            <a:solidFill>
              <a:srgbClr val="ff6600"/>
            </a:solidFill>
            <a:prstDash val="lgDash"/>
            <a:miter/>
            <a:tailEnd len="med" type="triangle" w="med"/>
          </a:ln>
        </p:spPr>
      </p:cxnSp>
      <p:cxnSp>
        <p:nvCxnSpPr>
          <p:cNvPr id="413" name=""/>
          <p:cNvCxnSpPr>
            <a:stCxn id="399" idx="2"/>
            <a:endCxn id="402" idx="3"/>
          </p:cNvCxnSpPr>
          <p:nvPr/>
        </p:nvCxnSpPr>
        <p:spPr>
          <a:xfrm flipH="1" flipV="1">
            <a:off x="5790960" y="4838040"/>
            <a:ext cx="659520" cy="572040"/>
          </a:xfrm>
          <a:prstGeom prst="straightConnector1">
            <a:avLst/>
          </a:prstGeom>
          <a:ln w="9360">
            <a:solidFill>
              <a:srgbClr val="ff6600"/>
            </a:solidFill>
            <a:prstDash val="lgDash"/>
            <a:miter/>
            <a:tailEnd len="med" type="triangle" w="med"/>
          </a:ln>
        </p:spPr>
      </p:cxnSp>
      <p:cxnSp>
        <p:nvCxnSpPr>
          <p:cNvPr id="414" name=""/>
          <p:cNvCxnSpPr>
            <a:stCxn id="396" idx="2"/>
            <a:endCxn id="402" idx="3"/>
          </p:cNvCxnSpPr>
          <p:nvPr/>
        </p:nvCxnSpPr>
        <p:spPr>
          <a:xfrm flipH="1">
            <a:off x="5790960" y="3886200"/>
            <a:ext cx="659520" cy="953280"/>
          </a:xfrm>
          <a:prstGeom prst="straightConnector1">
            <a:avLst/>
          </a:prstGeom>
          <a:ln w="9360">
            <a:solidFill>
              <a:srgbClr val="ff6600"/>
            </a:solidFill>
            <a:prstDash val="lgDash"/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586440" y="301320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data to one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04120" y="30132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data to different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4280" y="539424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 s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9720" y="548640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nnel s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1219320"/>
            <a:ext cx="16765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 data log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al 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e processing eas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cing at the grid 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aling with only one s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werful central processing site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219320"/>
            <a:ext cx="21333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aller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e processing pos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ata slicing at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ultiplication of large data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ultaneous availability of sites when processing l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05720" y="3657600"/>
            <a:ext cx="1981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aller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e processing per 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asy sca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hannel extraction at telescope increases data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3718080"/>
            <a:ext cx="17524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aller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aller data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asy sca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data mulit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lex data logistics after corre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e correlation c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19720" y="1219320"/>
            <a:ext cx="0" cy="4800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55600" y="28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124480" y="28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110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2448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B62-AAE0-4042-8F1E-45504954F4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lator architecture for file inp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19051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95280" y="1752480"/>
            <a:ext cx="457200" cy="38124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160020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62320" y="14479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00400" y="1866960"/>
            <a:ext cx="914400" cy="304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33" idx="3"/>
            <a:endCxn id="434" idx="1"/>
          </p:cNvCxnSpPr>
          <p:nvPr/>
        </p:nvCxnSpPr>
        <p:spPr>
          <a:xfrm flipH="1" rot="16200000">
            <a:off x="2799360" y="1618920"/>
            <a:ext cx="19116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2" idx="3"/>
            <a:endCxn id="434" idx="1"/>
          </p:cNvCxnSpPr>
          <p:nvPr/>
        </p:nvCxnSpPr>
        <p:spPr>
          <a:xfrm flipH="1" rot="16200000">
            <a:off x="2608920" y="1428480"/>
            <a:ext cx="38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31" idx="3"/>
            <a:endCxn id="434" idx="1"/>
          </p:cNvCxnSpPr>
          <p:nvPr/>
        </p:nvCxnSpPr>
        <p:spPr>
          <a:xfrm flipH="1" flipV="1" rot="5400000">
            <a:off x="2303640" y="1237680"/>
            <a:ext cx="115200" cy="1677240"/>
          </a:xfrm>
          <a:prstGeom prst="curvedConnector5">
            <a:avLst>
              <a:gd name="adj1" fmla="val -200000"/>
              <a:gd name="adj2" fmla="val 28402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0" idx="3"/>
            <a:endCxn id="434" idx="1"/>
          </p:cNvCxnSpPr>
          <p:nvPr/>
        </p:nvCxnSpPr>
        <p:spPr>
          <a:xfrm flipH="1" flipV="1" rot="5400000">
            <a:off x="1962000" y="1047240"/>
            <a:ext cx="267120" cy="2210400"/>
          </a:xfrm>
          <a:prstGeom prst="curvedConnector5">
            <a:avLst>
              <a:gd name="adj1" fmla="val -85695"/>
              <a:gd name="adj2" fmla="val 27577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4648320" y="1828800"/>
            <a:ext cx="53316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"/>
          <p:cNvCxnSpPr>
            <a:stCxn id="434" idx="3"/>
            <a:endCxn id="439" idx="2"/>
          </p:cNvCxnSpPr>
          <p:nvPr/>
        </p:nvCxnSpPr>
        <p:spPr>
          <a:xfrm>
            <a:off x="4114800" y="201888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609480" y="2666880"/>
            <a:ext cx="46483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sli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35053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95280" y="3352680"/>
            <a:ext cx="457200" cy="38124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20040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30481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467160"/>
            <a:ext cx="914400" cy="304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"/>
          <p:cNvCxnSpPr>
            <a:stCxn id="446" idx="3"/>
            <a:endCxn id="447" idx="1"/>
          </p:cNvCxnSpPr>
          <p:nvPr/>
        </p:nvCxnSpPr>
        <p:spPr>
          <a:xfrm flipH="1" rot="16200000">
            <a:off x="2799360" y="3219120"/>
            <a:ext cx="19116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5" idx="3"/>
            <a:endCxn id="447" idx="1"/>
          </p:cNvCxnSpPr>
          <p:nvPr/>
        </p:nvCxnSpPr>
        <p:spPr>
          <a:xfrm flipH="1" rot="16200000">
            <a:off x="2608920" y="3028680"/>
            <a:ext cx="38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4" idx="3"/>
            <a:endCxn id="447" idx="1"/>
          </p:cNvCxnSpPr>
          <p:nvPr/>
        </p:nvCxnSpPr>
        <p:spPr>
          <a:xfrm flipH="1" flipV="1" rot="5400000">
            <a:off x="2303640" y="2837880"/>
            <a:ext cx="115200" cy="1677240"/>
          </a:xfrm>
          <a:prstGeom prst="curvedConnector5">
            <a:avLst>
              <a:gd name="adj1" fmla="val -200000"/>
              <a:gd name="adj2" fmla="val 28402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3" idx="3"/>
            <a:endCxn id="447" idx="1"/>
          </p:cNvCxnSpPr>
          <p:nvPr/>
        </p:nvCxnSpPr>
        <p:spPr>
          <a:xfrm flipH="1" flipV="1" rot="5400000">
            <a:off x="1962000" y="2647440"/>
            <a:ext cx="267120" cy="2210400"/>
          </a:xfrm>
          <a:prstGeom prst="curvedConnector5">
            <a:avLst>
              <a:gd name="adj1" fmla="val -85695"/>
              <a:gd name="adj2" fmla="val 27577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4648320" y="3429000"/>
            <a:ext cx="53316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47" idx="3"/>
            <a:endCxn id="452" idx="2"/>
          </p:cNvCxnSpPr>
          <p:nvPr/>
        </p:nvCxnSpPr>
        <p:spPr>
          <a:xfrm>
            <a:off x="4114800" y="361908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609480" y="4267080"/>
            <a:ext cx="46483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sli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457200" cy="38124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502920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4876920"/>
            <a:ext cx="45720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62320" y="4724280"/>
            <a:ext cx="457200" cy="38124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00400" y="5143680"/>
            <a:ext cx="914400" cy="30456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59" idx="3"/>
            <a:endCxn id="460" idx="1"/>
          </p:cNvCxnSpPr>
          <p:nvPr/>
        </p:nvCxnSpPr>
        <p:spPr>
          <a:xfrm flipH="1" rot="16200000">
            <a:off x="2799360" y="4895640"/>
            <a:ext cx="19116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8" idx="3"/>
            <a:endCxn id="460" idx="1"/>
          </p:cNvCxnSpPr>
          <p:nvPr/>
        </p:nvCxnSpPr>
        <p:spPr>
          <a:xfrm flipH="1" rot="16200000">
            <a:off x="2608920" y="4705200"/>
            <a:ext cx="38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7" idx="3"/>
            <a:endCxn id="460" idx="1"/>
          </p:cNvCxnSpPr>
          <p:nvPr/>
        </p:nvCxnSpPr>
        <p:spPr>
          <a:xfrm flipH="1" flipV="1" rot="5400000">
            <a:off x="2304000" y="4514040"/>
            <a:ext cx="114840" cy="1677240"/>
          </a:xfrm>
          <a:prstGeom prst="curvedConnector5">
            <a:avLst>
              <a:gd name="adj1" fmla="val -200000"/>
              <a:gd name="adj2" fmla="val 28402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6" idx="3"/>
            <a:endCxn id="460" idx="1"/>
          </p:cNvCxnSpPr>
          <p:nvPr/>
        </p:nvCxnSpPr>
        <p:spPr>
          <a:xfrm flipH="1" flipV="1" rot="5400000">
            <a:off x="1962000" y="4323960"/>
            <a:ext cx="267120" cy="2210400"/>
          </a:xfrm>
          <a:prstGeom prst="curvedConnector5">
            <a:avLst>
              <a:gd name="adj1" fmla="val -85695"/>
              <a:gd name="adj2" fmla="val 27577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4648320" y="5105520"/>
            <a:ext cx="53316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"/>
          <p:cNvCxnSpPr>
            <a:stCxn id="460" idx="3"/>
            <a:endCxn id="465" idx="2"/>
          </p:cNvCxnSpPr>
          <p:nvPr/>
        </p:nvCxnSpPr>
        <p:spPr>
          <a:xfrm>
            <a:off x="4114800" y="529560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9480" y="4648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slic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465360"/>
            <a:ext cx="914400" cy="304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429000"/>
            <a:ext cx="533520" cy="380880"/>
          </a:xfrm>
          <a:prstGeom prst="flowChartMagneticDisk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>
            <a:stCxn id="439" idx="4"/>
            <a:endCxn id="468" idx="1"/>
          </p:cNvCxnSpPr>
          <p:nvPr/>
        </p:nvCxnSpPr>
        <p:spPr>
          <a:xfrm>
            <a:off x="5181120" y="2018880"/>
            <a:ext cx="686520" cy="159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stCxn id="452" idx="4"/>
            <a:endCxn id="468" idx="1"/>
          </p:cNvCxnSpPr>
          <p:nvPr/>
        </p:nvCxnSpPr>
        <p:spPr>
          <a:xfrm flipV="1">
            <a:off x="5181120" y="361764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5" idx="4"/>
            <a:endCxn id="468" idx="1"/>
          </p:cNvCxnSpPr>
          <p:nvPr/>
        </p:nvCxnSpPr>
        <p:spPr>
          <a:xfrm flipV="1">
            <a:off x="5181120" y="3617280"/>
            <a:ext cx="686520" cy="1678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8" idx="3"/>
            <a:endCxn id="469" idx="2"/>
          </p:cNvCxnSpPr>
          <p:nvPr/>
        </p:nvCxnSpPr>
        <p:spPr>
          <a:xfrm>
            <a:off x="6781320" y="361800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5943600" y="1101600"/>
            <a:ext cx="2658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ses data from one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sy scalable, because one application has all the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xploit multiple processors using M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e reuse through OO and  C+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989680" y="4206960"/>
            <a:ext cx="25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software architecture can work for data distributions 1,2 and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55480" y="575316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lin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4C8-748E-414D-AE42-19F2748BF4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lator architecture for data stre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>
            <a:off x="1209600" y="1449360"/>
            <a:ext cx="25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08040" y="1449360"/>
            <a:ext cx="27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19440" y="14493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09960" y="1449360"/>
            <a:ext cx="28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04520" y="166536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68320" y="16714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68320" y="19558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68320" y="2241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04520" y="24922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704520" y="19162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04520" y="220500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68320" y="24922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68320" y="2776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68320" y="30621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04520" y="33130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704520" y="273672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704520" y="302580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68320" y="33242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68320" y="36082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68320" y="38941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04520" y="414504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704520" y="35686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04520" y="385776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95680" y="2349360"/>
            <a:ext cx="673200" cy="250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78480" y="2349360"/>
            <a:ext cx="793800" cy="250920"/>
          </a:xfrm>
          <a:prstGeom prst="flowChartMagneticDrum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ff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8320" y="41846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68320" y="4468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68320" y="47545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704520" y="5005080"/>
            <a:ext cx="1684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704520" y="44290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704520" y="471816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97240" y="14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92320" y="14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82720" y="148608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77800" y="14796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5840" y="14922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"/>
          <p:cNvCxnSpPr>
            <a:stCxn id="501" idx="3"/>
            <a:endCxn id="502" idx="1"/>
          </p:cNvCxnSpPr>
          <p:nvPr/>
        </p:nvCxnSpPr>
        <p:spPr>
          <a:xfrm>
            <a:off x="4268880" y="24746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3591000" y="3181320"/>
            <a:ext cx="673200" cy="250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73440" y="3181320"/>
            <a:ext cx="793800" cy="250920"/>
          </a:xfrm>
          <a:prstGeom prst="flowChartMagneticDrum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ff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515" idx="3"/>
            <a:endCxn id="516" idx="1"/>
          </p:cNvCxnSpPr>
          <p:nvPr/>
        </p:nvCxnSpPr>
        <p:spPr>
          <a:xfrm>
            <a:off x="4263840" y="3306240"/>
            <a:ext cx="309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"/>
          <p:cNvSpPr/>
          <p:nvPr/>
        </p:nvSpPr>
        <p:spPr>
          <a:xfrm>
            <a:off x="3579840" y="4030560"/>
            <a:ext cx="673200" cy="250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62640" y="4030560"/>
            <a:ext cx="793440" cy="250920"/>
          </a:xfrm>
          <a:prstGeom prst="flowChartMagneticDrum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ff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"/>
          <p:cNvCxnSpPr>
            <a:stCxn id="518" idx="3"/>
            <a:endCxn id="519" idx="1"/>
          </p:cNvCxnSpPr>
          <p:nvPr/>
        </p:nvCxnSpPr>
        <p:spPr>
          <a:xfrm>
            <a:off x="4253040" y="41558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5872320" y="3174840"/>
            <a:ext cx="672840" cy="2509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136000" y="16765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136000" y="19605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136000" y="22464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136000" y="24969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36000" y="27813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136000" y="30672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136000" y="33289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136000" y="36133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136000" y="38988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Verdana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136000" y="41893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136000" y="4473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136000" y="47592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Verdana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18360" y="1444680"/>
            <a:ext cx="28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"/>
          <p:cNvCxnSpPr>
            <a:stCxn id="502" idx="4"/>
            <a:endCxn id="521" idx="1"/>
          </p:cNvCxnSpPr>
          <p:nvPr/>
        </p:nvCxnSpPr>
        <p:spPr>
          <a:xfrm>
            <a:off x="5371920" y="2474640"/>
            <a:ext cx="500760" cy="826200"/>
          </a:xfrm>
          <a:prstGeom prst="curvedConnector5">
            <a:avLst>
              <a:gd name="adj1" fmla="val 49784"/>
              <a:gd name="adj2" fmla="val 50000"/>
              <a:gd name="adj3" fmla="val 497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16" idx="4"/>
            <a:endCxn id="521" idx="1"/>
          </p:cNvCxnSpPr>
          <p:nvPr/>
        </p:nvCxnSpPr>
        <p:spPr>
          <a:xfrm flipV="1">
            <a:off x="5366880" y="3299760"/>
            <a:ext cx="505800" cy="6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19" idx="4"/>
            <a:endCxn id="521" idx="1"/>
          </p:cNvCxnSpPr>
          <p:nvPr/>
        </p:nvCxnSpPr>
        <p:spPr>
          <a:xfrm flipV="1">
            <a:off x="5356080" y="3299760"/>
            <a:ext cx="516960" cy="856440"/>
          </a:xfrm>
          <a:prstGeom prst="curvedConnector5">
            <a:avLst>
              <a:gd name="adj1" fmla="val 49825"/>
              <a:gd name="adj2" fmla="val 50000"/>
              <a:gd name="adj3" fmla="val 498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8032680" y="14778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489880" y="14889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032680" y="1657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032680" y="1917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32680" y="2203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032680" y="248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032680" y="2755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32680" y="3030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32680" y="3306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032680" y="3587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32680" y="385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032680" y="414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32680" y="443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032680" y="4714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32680" y="50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94000" y="1790640"/>
            <a:ext cx="1206360" cy="61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08400" y="2039760"/>
            <a:ext cx="1193760" cy="1200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03360" y="2346480"/>
            <a:ext cx="1162080" cy="1720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553080" y="1765080"/>
            <a:ext cx="1479600" cy="153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554880" y="2052360"/>
            <a:ext cx="1473120" cy="1244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50200" y="2339640"/>
            <a:ext cx="1485720" cy="958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394000" y="2425680"/>
            <a:ext cx="1200240" cy="184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08400" y="2878200"/>
            <a:ext cx="1199880" cy="399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90760" y="3139920"/>
            <a:ext cx="1181160" cy="9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548400" y="2617560"/>
            <a:ext cx="147312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537240" y="2860200"/>
            <a:ext cx="1511280" cy="444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551640" y="3153960"/>
            <a:ext cx="149220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394000" y="2482560"/>
            <a:ext cx="1200240" cy="9586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408400" y="3315960"/>
            <a:ext cx="1187280" cy="3999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03360" y="4003560"/>
            <a:ext cx="1181160" cy="1396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35800" y="3316320"/>
            <a:ext cx="1492200" cy="133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524640" y="3311640"/>
            <a:ext cx="1504800" cy="3934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45160" y="3319560"/>
            <a:ext cx="1486080" cy="6858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394000" y="2552400"/>
            <a:ext cx="1212840" cy="17398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395440" y="3392640"/>
            <a:ext cx="1187640" cy="11872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397240" y="4206960"/>
            <a:ext cx="1168200" cy="6602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45160" y="3313080"/>
            <a:ext cx="1486080" cy="9777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540480" y="3314880"/>
            <a:ext cx="1498680" cy="1257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48400" y="3297240"/>
            <a:ext cx="1492200" cy="15620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34680" y="5073480"/>
            <a:ext cx="8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0120" y="5143680"/>
            <a:ext cx="197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buffer with short time sl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39640" y="1676520"/>
            <a:ext cx="12960" cy="33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16200000">
            <a:off x="150840" y="326952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29600" y="516240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tim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FABRIC meeting at Poznan, Pola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9BD-B8BD-4A4F-BCAF-570C2FE8F6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-09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ud Oerlemans</cp:lastModifiedBy>
  <dcterms:modified xsi:type="dcterms:W3CDTF">2006-09-22T10:24:5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